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87E-D770-4CDA-B9D6-D41C0638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AC8-F263-4749-9C42-67F3E907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E92-1583-4B0B-BF1C-F8F92990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49F-36A5-4024-9CD8-0BABC03A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0BA-3D21-48BD-A528-781BAC55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4AD-E199-43D4-B3E0-99B6C3B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8E9-C3BA-45F7-B314-29ABE39A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CB1-3672-44A1-969C-98C850A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CFC-ECB9-4E65-ABF6-0B5FA0EC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6D0-31D9-4D42-B25C-E936B9C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0D9-AC2A-43F3-B39D-67C1A794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0D1-57C3-42CD-BBDB-B1CD8B3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F8BF-4C1D-486D-AE72-F42806640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What is 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705720" y="3429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Oa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0" descr="C:\Documents and Settings\ISLPT179\Local Settings\Temporary Internet Files\Content.IE5\5USIGLW0\MP900148892[1].jpg"/>
          <p:cNvPicPr/>
          <p:nvPr/>
        </p:nvPicPr>
        <p:blipFill>
          <a:blip r:embed="rId1"/>
          <a:stretch/>
        </p:blipFill>
        <p:spPr>
          <a:xfrm>
            <a:off x="2133720" y="1981080"/>
            <a:ext cx="327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 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05720" y="350532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1966"/>
                </a:solidFill>
                <a:latin typeface="Times New Roman"/>
              </a:rPr>
              <a:t>Mountain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ISLPT179\Local Settings\Temporary Internet Files\Content.IE5\OXXLXK57\MP900447541[1].jpg"/>
          <p:cNvPicPr/>
          <p:nvPr/>
        </p:nvPicPr>
        <p:blipFill>
          <a:blip r:embed="rId1"/>
          <a:stretch/>
        </p:blipFill>
        <p:spPr>
          <a:xfrm>
            <a:off x="685800" y="2590920"/>
            <a:ext cx="59436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2"/>
          <p:cNvSpPr/>
          <p:nvPr/>
        </p:nvSpPr>
        <p:spPr>
          <a:xfrm>
            <a:off x="762120" y="22860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is  Differentiae  of  a mountain and a volcano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838080" y="25909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ne can eruded and one can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hat is the diffident of a lake and a gulf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838080" y="259092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 lake is completely shrouded  by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99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Times New Roman"/>
              </a:rPr>
              <a:t>What is the same about a bay and a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Times New Roman"/>
              </a:rPr>
              <a:t>They both go out to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Documents and Settings\ISLPT179\Local Settings\Temporary Internet Files\Content.IE5\65T806GC\MP900443549[1].jpg"/>
          <p:cNvPicPr/>
          <p:nvPr/>
        </p:nvPicPr>
        <p:blipFill>
          <a:blip r:embed="rId1"/>
          <a:stretch/>
        </p:blipFill>
        <p:spPr>
          <a:xfrm>
            <a:off x="0" y="3581280"/>
            <a:ext cx="3886200" cy="2586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ISLPT179\Local Settings\Temporary Internet Files\Content.IE5\65T806GC\MP900443552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4191120" cy="27892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0"/>
          <p:cNvCxnSpPr/>
          <p:nvPr/>
        </p:nvCxnSpPr>
        <p:spPr>
          <a:xfrm flipH="1">
            <a:off x="761400" y="5105520"/>
            <a:ext cx="1905480" cy="3816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89" name="Straight Arrow Connector 22"/>
          <p:cNvCxnSpPr/>
          <p:nvPr/>
        </p:nvCxnSpPr>
        <p:spPr>
          <a:xfrm>
            <a:off x="6553080" y="4952520"/>
            <a:ext cx="1905840" cy="762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6294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Documents and Settings\ISLPT179\Local Settings\Temporary Internet Files\Content.IE5\OXXLXK57\MP900313889[1].jpg"/>
          <p:cNvPicPr/>
          <p:nvPr/>
        </p:nvPicPr>
        <p:blipFill>
          <a:blip r:embed="rId1"/>
          <a:stretch/>
        </p:blipFill>
        <p:spPr>
          <a:xfrm>
            <a:off x="2362320" y="28954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ts in to a body of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62940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Documents and Settings\ISLPT179\Local Settings\Temporary Internet Files\Content.IE5\5USIGLW0\MP900181912[1].jpg"/>
          <p:cNvPicPr/>
          <p:nvPr/>
        </p:nvPicPr>
        <p:blipFill>
          <a:blip r:embed="rId1"/>
          <a:stretch/>
        </p:blipFill>
        <p:spPr>
          <a:xfrm>
            <a:off x="3416400" y="2438280"/>
            <a:ext cx="2311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57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ISLPT179\Local Settings\Temporary Internet Files\Content.IE5\5USIGLW0\MP900447690[1].jpg"/>
          <p:cNvPicPr/>
          <p:nvPr/>
        </p:nvPicPr>
        <p:blipFill>
          <a:blip r:embed="rId1"/>
          <a:stretch/>
        </p:blipFill>
        <p:spPr>
          <a:xfrm>
            <a:off x="2514600" y="3276720"/>
            <a:ext cx="31622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Documents and Settings\ISLPT179\Local Settings\Temporary Internet Files\Content.IE5\5USIGLW0\MP900443758[1].jpg"/>
          <p:cNvPicPr/>
          <p:nvPr/>
        </p:nvPicPr>
        <p:blipFill>
          <a:blip r:embed="rId1"/>
          <a:stretch/>
        </p:blipFill>
        <p:spPr>
          <a:xfrm>
            <a:off x="3274920" y="2570040"/>
            <a:ext cx="2594160" cy="171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ISLPT179\Local Settings\Temporary Internet Files\Content.IE5\5USIGLW0\MP900443758[1].jpg"/>
          <p:cNvPicPr/>
          <p:nvPr/>
        </p:nvPicPr>
        <p:blipFill>
          <a:blip r:embed="rId2"/>
          <a:stretch/>
        </p:blipFill>
        <p:spPr>
          <a:xfrm>
            <a:off x="3274920" y="2570040"/>
            <a:ext cx="259416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9343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C:\Documents and Settings\ISLPT179\Local Settings\Temporary Internet Files\Content.IE5\OXXLXK57\MP900313888[1].jpg"/>
          <p:cNvPicPr/>
          <p:nvPr/>
        </p:nvPicPr>
        <p:blipFill>
          <a:blip r:embed="rId1"/>
          <a:stretch/>
        </p:blipFill>
        <p:spPr>
          <a:xfrm>
            <a:off x="304920" y="2286000"/>
            <a:ext cx="64767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C:\Documents and Settings\ISLPT179\Local Settings\Temporary Internet Files\Content.IE5\UNOMQ7S5\MP900432748[1].jpg"/>
          <p:cNvPicPr/>
          <p:nvPr/>
        </p:nvPicPr>
        <p:blipFill>
          <a:blip r:embed="rId1"/>
          <a:stretch/>
        </p:blipFill>
        <p:spPr>
          <a:xfrm>
            <a:off x="304920" y="2895480"/>
            <a:ext cx="57909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Glac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Documents and Settings\ISLPT179\Local Settings\Temporary Internet Files\Content.IE5\UNOMQ7S5\MP900414057[1].jpg"/>
          <p:cNvPicPr/>
          <p:nvPr/>
        </p:nvPicPr>
        <p:blipFill>
          <a:blip r:embed="rId1"/>
          <a:stretch/>
        </p:blipFill>
        <p:spPr>
          <a:xfrm>
            <a:off x="990720" y="2438280"/>
            <a:ext cx="5105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:\Documents and Settings\ISLPT179\Local Settings\Temporary Internet Files\Content.IE5\65T806GC\MP900447753[1].jpg"/>
          <p:cNvPicPr/>
          <p:nvPr/>
        </p:nvPicPr>
        <p:blipFill>
          <a:blip r:embed="rId1"/>
          <a:stretch/>
        </p:blipFill>
        <p:spPr>
          <a:xfrm>
            <a:off x="1066680" y="3276720"/>
            <a:ext cx="47498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30T15:46:51Z</dcterms:modified>
  <cp:revision>43</cp:revision>
  <dc:subject/>
  <dc:title>PowerPoint Presentation</dc:title>
</cp:coreProperties>
</file>